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442-3123-4FF7-AB6B-8C5ACD63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0B2-4AD7-4F2F-976B-9D885298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57A-AC04-4F86-A990-CF0538A8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7D3-9C99-4BE9-A534-87C98730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C0FA-4AAD-401B-AE63-21434C89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A6EB-96D3-4B2B-B4A2-5C0B1AFB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1785-6022-44CC-AE2F-D2128F2C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ADF9-F74F-4651-9157-E1E95826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7073-406E-407A-B8D7-4216F3DD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7757-61B5-40CE-9C67-F86DF8E7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7F7F-676F-4E52-9389-CDA89D96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995A-2239-4988-A29B-00F735C3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4773-EFE7-4C3B-BD05-1652DF2E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04BB-559A-45B6-AF67-0702362C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9458-3691-4A08-ACA0-649E937B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17EE-088C-4B8F-9092-68C73151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0425-8CF2-461E-B415-600D5284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327-A736-4653-9C95-D2CF2CBC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695-90BA-47F7-92EE-85E9FC3C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BA3-0F20-45F4-A708-20ABACF1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A50-DE06-4588-9AA1-8DD9D6F6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1F6-34F1-4957-917C-3CA6C944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A37-B3B8-4B29-9287-EDE71795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E66-0E0F-474A-BC95-A0803B41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83B3-E852-4EFD-9759-603962ECB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BEAC-1840-413E-B06F-A7E1EE235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80060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يا جميعَ الشعوبِ صَفِّقوا بالأَكُف إهتفوا للهِ بصوتِ الترنيمِ اهتفوا لله بصوتِ الترنيمِ فإن الربَ صالحٌ قدوسٌ ملكٌ عظيمٌ عظيمٌ على جميعِ الأ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2743200" cy="11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حيٌ المسيحُ ربُنا حيٌ رجانا وميراثُنا عن يمينِ الله في الأعالي يسوعُ المسيحُ الفادي أشيدوا للهِ أشيدوا أشيدوا لملِكِنا أشيدو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1440"/>
            <a:ext cx="647712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2362320" cy="11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فإن الربَّ هوَ ملكُ الأرضِ كلّها أشيدوا بصوتِ ترنيمٍ مَلَكَ اللهُ على الأممِ اللهُ العليّ ملِكٌ مدى الدهو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7:43:23Z</dcterms:created>
  <dc:creator>HANI SAFI</dc:creator>
  <dc:description/>
  <dc:language>en-US</dc:language>
  <cp:lastModifiedBy>HANI SAFI</cp:lastModifiedBy>
  <dcterms:modified xsi:type="dcterms:W3CDTF">2003-05-30T08:57:57Z</dcterms:modified>
  <cp:revision>2</cp:revision>
  <dc:subject/>
  <dc:title>Slide 1</dc:title>
</cp:coreProperties>
</file>